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A281D-D4D4-41AC-9935-420C2C9B7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97784-E25B-4E47-86BC-8510391BC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6DF3-5768-4E1E-8D75-2988AE90E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296F-417A-4F0C-A493-11C3E46E1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A5F6-225D-4161-ACD8-3A50FFE3E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5179-490A-4165-AEB2-91AC753D1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1F7D-9AD3-468D-921C-C1E2444C9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3AA1-0D58-433B-9596-68448CAAB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E0A8-5F2F-4D9A-AF18-72DCE2AB7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60B5-5AD2-4426-B068-D3B554202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8DEF-17F1-488F-A160-4FD3C4885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E335-A0C1-416B-857D-114E4002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B0D3-6A00-4D9E-8F9A-3D4A3CF65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02E1-983A-4FEB-BDCE-0E61857B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B9B24-8229-4107-AA0B-B0067E3D67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Rita Kopczyns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Rita Kopczynsk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Rita Kopczynski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Rita Kopczynski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Rita Kopczynski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419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828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Hola! Mi nombre es Rita. Yo vivo en New York. Tengo catorce años. Yo tengo dos hermanos y un hermana. Estoy feliz y graciosa. Amo mi familia y amigas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510228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5102280"/>
            <a:ext cx="536760" cy="78588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152280" y="556272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go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943600"/>
            <a:ext cx="543240" cy="78120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5181480"/>
            <a:ext cx="439560" cy="62892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447920" y="5486400"/>
            <a:ext cx="182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e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Ri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Noviembre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Gabb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Noviem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Ri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Noviembre 30, de 201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rgo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Noviem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Ri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Noviem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Margo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Noviem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 mañana!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914400" y="594360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76160" y="556272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bb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3T18:26:09Z</dcterms:modified>
  <cp:revision>106</cp:revision>
  <dc:subject/>
  <dc:title>Profile</dc:title>
</cp:coreProperties>
</file>